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81AA-D1D0-4095-9A00-AD3A0882D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BE96-EAA8-46AD-8396-91EA8CCCF77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9F54-1927-413D-A2A3-2C55D0E9B5C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9F94-9FAE-4F2C-86E4-9C7B583A05E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C09-3109-4312-8D6F-6B69EBA76D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C9A2-1E7A-4B90-B69D-C816D6F4425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4B2-9881-4ACC-8D26-2BA8E0A4831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945-405C-42E3-B4EF-0E42D06FF6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F91-94C8-4C42-BF3D-AEA06D83559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EEC6-44D1-4376-9AD8-CEAC0B4FE64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3B0-D975-4CCB-85F7-25B1E51259B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41B-DAD3-4F4D-AEEA-01B0A17C169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E26-EBC2-432A-8993-CA18DDBC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F62-7CD0-46EC-BF8A-9626D35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BC4-E227-4FC0-8BBF-E33C382F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D3F-F105-4A9F-97AC-4D2C973F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ABD5-A706-4DEC-A3C5-CD765AB5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B308-3629-43B2-8359-0E5922DF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73AA-E129-47EF-8446-B54BBD2B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8813-7A7E-403B-A5B3-B2F600A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A94B-F514-4640-ABB6-3913F4D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1B2E-537F-4A73-9F7A-49A000C8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6C53-5E37-467B-8EBD-6483378D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EE6-BBF5-4654-96F8-A3947017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3752-0DEE-4F3B-815D-0E34925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7D79-4D1D-4ACB-9692-D101D1C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8A84-DB57-4C94-B88C-2F157F15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09CA-F856-4CEF-817D-25F991B5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A6C-E4FD-446F-9E10-74EB318C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D2B-9EB9-41AC-9B2A-AD3CD583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B39-B7C7-4AE2-A309-432E0BA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2CA-42DE-40DA-BF06-F9F5AD0D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54F-F0D5-4D2E-B4F7-3590312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A28-AAA2-4AE2-B262-285DC61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435-378C-47E5-B5A3-6C91F8E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283-D75C-4A4F-B8AE-7894B30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579-4388-495C-AA1A-0120DF535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969D-23E2-4DCA-A724-A249813FF2F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iterary Term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You Should Kno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You may want to take notes: write the definition, and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example for each term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when a word sounds like what it represents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splas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dri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smus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spl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066680" y="3200400"/>
            <a:ext cx="7010640" cy="251460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he use of vivid sensory description to create mental pictur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room was dark and musty and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smelled like an old sho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blueberries were as big as your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umb and tasted like soo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We heard the horses hoofs clatter on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e cobblestone stree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3352680"/>
            <a:ext cx="7239240" cy="289584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 tool a writer uses to help the reader visualize what is happening in a piece of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 comparison between two unlike things using the words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like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as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or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 than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The sun is like a yellow ball of fire in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e sk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Her feet were bigger than boa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y fought like cats and dog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66680" y="3352680"/>
            <a:ext cx="7162920" cy="236232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 comparison between two unlike things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without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using the words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like, as, or than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; when one thing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the other thing</a:t>
            </a:r>
            <a:br>
              <a:rPr sz="3200"/>
            </a:b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Her home was a priso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His hair is straw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George is a sheep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4191120"/>
            <a:ext cx="7162920" cy="182880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yperbol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he use of a big exaggeration to make a point or for effect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He has tons of mon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Her brain is the size of a pea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- I’ve told you a million times to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capitalize people’s nam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5800" y="3505320"/>
            <a:ext cx="7848720" cy="251460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diom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ressions that usually cannot be understood by defining the separate wor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I’m so hungry I could eat a hors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at test was a piece of cak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Something fishy is going on around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here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71600" y="3505320"/>
            <a:ext cx="7086600" cy="220968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llu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 reference to something from literature, history, or culture to express a poin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Christy didn't like to spend money, but she was no Scroo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cinnamon rolls were huge and golden brown, reminiscent of the twisted buns on the sides of Princess Leia's head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I am afraid of spiders, but I'm no cowardly lion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85800" y="3124080"/>
            <a:ext cx="7848720" cy="304812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giving human qualities to non-human objec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rain kissed my cheeks as it fell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car engine coughed and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sputtered as it starte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The microwave timer told me my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pizza was read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90720" y="3429000"/>
            <a:ext cx="7543800" cy="259092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petition of an initial consonant sound; there should be at least two repetitions in a row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The wooly walrus wonders when we’ll 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walk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b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Sally sells seashells by the seashor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0000"/>
                </a:solidFill>
                <a:latin typeface="Arial"/>
              </a:rPr>
              <a:t>- Peter Piper picks pickled pepper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71600" y="3581280"/>
            <a:ext cx="7162920" cy="2438640"/>
          </a:xfrm>
          <a:prstGeom prst="rect">
            <a:avLst/>
          </a:prstGeom>
          <a:noFill/>
          <a:ln w="57240">
            <a:solidFill>
              <a:srgbClr val="cc60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7:34:41Z</dcterms:created>
  <dc:creator>K. J. Hatzigeorgiou</dc:creator>
  <dc:description/>
  <dc:language>en-US</dc:language>
  <cp:lastModifiedBy>ITEC Department</cp:lastModifiedBy>
  <dcterms:modified xsi:type="dcterms:W3CDTF">2010-12-30T18:16:54Z</dcterms:modified>
  <cp:revision>13</cp:revision>
  <dc:subject/>
  <dc:title>Literary Terms  You Should Know</dc:title>
</cp:coreProperties>
</file>